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BD51-8134-4687-BBE8-9E7D24B8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1E0-ED41-49B7-8C9C-275E72FC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180A8-61D2-4D04-9021-0F2FEC94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D3270-BD48-44C0-BF8D-90A726A6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4C3CC-E610-43E4-9BB9-DDD45CB8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9C86E-B259-4FE9-8135-4E7E2CA0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5B1A5-9455-4C13-BE7D-C8E33F7C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2AE8A-B900-4B5D-93DF-76564802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75079-8502-433F-9C2B-7A1AA4CE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09C43-80CB-48D1-A7C4-BFDEDFB7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93C73-CA10-42C7-BE2A-B65088EB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C40E2-4BE3-459C-A16B-54D16910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3C0F-CD47-419D-AEDB-ECD66957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01C07-125D-4863-B56D-E8D0BE4E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6D9D5-B380-4D00-8464-8BFC1629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70902-FD23-4A37-B873-7F58468B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EF8EA-3C3D-4FC0-8196-AB744A5C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D3513-2867-4C45-8A70-9B8DCE7D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7F912-5FAC-44AB-999F-C9EA1A9D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FCB69-0FE1-4ACF-ADD9-C6670306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93AA4-D5C2-4058-B8E1-D5C56050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D6F70-79A3-4C4D-92CE-3E89718C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62654-DDF7-4288-86F4-F8BA7322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F7C-5A4F-4A58-B4D7-7D4CE19D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6CDD3-9293-4568-A6A3-03E53655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796AD-BE8C-41E3-9AF9-36348824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02171-F630-4C32-9914-83FF6D49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996B8-EB46-4544-B912-093D16BA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4EFA1-F082-44FE-ABD0-F8E50C95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17D1C-E526-4CCB-AFE1-FD118268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27914-3721-425C-8592-9024729F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AA32E-BCC3-4BEB-9D28-7B31CB6C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581EE-FD9C-4B5A-B701-E899C988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3EEAD-EF89-4688-A838-F282278B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FDB5-31CB-40BD-8B9B-FFF557CB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353CC-29C8-43F7-B40C-CE358C1F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FBDB8-52A2-4ADB-913D-04B6DC02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E4A3B-9AD1-4D49-99E8-5DC1C72A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09858-5838-4CC8-9A7A-21A22B04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A5DA1-33E7-4DAF-9C4A-A6E07A1A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8A2AE-A7FC-4251-A504-7BB37F01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6848A-7757-46C0-9D14-1D771E1D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0D9C3-59CC-4A09-93ED-EB9CD620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A7DFB-881F-40B2-B0A8-DFA356B2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18EF9-940D-4280-8456-BDEC79DA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9BD4-1E2E-4500-A027-819EFC23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ADA3B-DF18-4D7A-8A57-01F542C2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9CFBD-B2C4-4506-9598-CCDECAD6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9D942-A84B-4CDD-B845-460089E0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40862-A967-41BB-A3EF-222C41D7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215B1-59EC-497A-A3C1-FFF81191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FA7154-4A03-41DA-9843-9E972C69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F547F1-0334-4F7A-BE40-11EE969E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5CFF8-85E6-4B41-830B-339B9623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9E7A3-814E-46B5-93A5-70976A99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6857B-085E-42E4-832C-F796099C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F51B-40B0-4BB1-A5A1-0F049FC5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95D18-E4C9-464F-87C0-86DE86EC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95ED9-0E15-4077-A033-92CDABFA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C955B-57EA-4054-AB4E-C69CA6F6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315D7-C43F-465E-B0AB-97EBF041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CFDD7D-03DF-488C-BF5F-B1FB10F3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F33FF-10F3-4D86-9D5B-A31395A7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BF3461-AC63-4229-B811-97377532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AFD7E7-7264-4AD5-97FE-A42DE81C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A8654-AA5F-442D-A2D6-BE873407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5A3141-2FA4-40E1-BDA9-7307080D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881C-102A-43F7-86E1-1F5572C9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094F62-13AF-41A5-A8C3-F4A943BC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ACF4F3-0AA1-4A93-BA73-F1EDE982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0632C7-6799-4D7A-A208-0B255016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176365-D602-4A28-9A91-E2C01D98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D9425F-358F-48A1-A5D0-8776D5BC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010F2-A06C-47D8-A3F9-0E4FD0B3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F51EC0-AC2E-4E21-B5C9-0D8299EB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82B6B1-21B6-432E-BBF2-B7919AC6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2DC98-22F0-44D9-A512-E346B268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CBE76D-4D77-4156-AF53-04550301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D78B-B454-43A7-A49F-10577475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D2EDC4-47A0-4F57-8B32-243D7422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3AD54E-8970-459C-879F-6A4088F7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F5D1DC-7290-4766-8983-E0A63D97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748C56-5BC8-4199-8D6F-5067468B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F32BDE-1DFC-4ED6-8F49-C4732897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BB2E3A-3F96-4B2F-B084-19D33A12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A45CA8-48C1-40E5-8D62-B5320D16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232F4A-A2B6-469C-AC87-CF51D27F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18292B-5D69-4538-BE47-24AA0322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A4996E-7D8F-4ACA-92F8-C3045D52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667A-5302-4614-96F5-A64218BB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8B7C72-336C-417C-9707-63EB0E8E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6560DD-3E53-4DF0-92FA-BB60D43B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F06460-A26E-4B8E-8AE1-02C21FED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7BCD55-3848-4ABB-B2E7-93409570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E52B77-31B4-4F52-BBF9-75B25F27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B4FC81-28BE-43CD-81F3-DD8CD777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05B042-4A63-4614-BEEF-A00E0EE7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2A7F39-09BE-478B-8757-8D19DA05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8FB9AE-3DD8-4B4F-9304-8FFD3B13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BF5FD3-A551-4142-ADF5-D91D6260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0112-6E0F-4FD6-9F91-EF3E6943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BA4E5D-06BF-4DF1-986E-7E9A19B2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29B375-DFBF-4659-AD8F-FFB3D063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2AC3D4-C732-4D4C-887F-086ED44F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0F4820-CA22-4395-9F04-BB38D224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A15708-A776-47A3-8CED-A4E385EB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11259A-CF35-41A9-AB45-A0C1CEFD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B16A31-6BC0-4941-A3AB-65201D6F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A21D80-00AD-48F3-8FE4-D9105B53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757160-390B-4F5B-8123-18C85871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3A1A60-EC20-4791-883C-8A59368C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6C7-75E3-4A7F-9748-9EEE6189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4A69-7094-44B9-9A07-4042DDC5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16778B-BBD1-4547-A0AD-250D436D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E0F32F-B393-4EAF-98AA-CEF24217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04B884-866E-4C54-93D0-45A8E85C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F7C6FD-47CE-4EE8-ADEF-BC565CFE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830BFB-1D90-47B9-9606-8B6283F5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5A1811-61C6-4C37-A20F-D24BC810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C602AB-B32E-4F76-B19A-04CCAE73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AE5494-78AB-442D-B7A4-4EEF7ABD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1FA995-29AB-4CBF-AB94-F8C933F3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57E7EF-333F-4C3B-8C62-FA891FB5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E54F-A721-40C1-AB09-3DE4F98F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7F358B-17D6-4301-9156-4BF8288E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CF4029-41A3-4AE4-9645-FF9064F8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A03704-81FE-4C94-9BDF-2A8AD8B5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6E538D-3B4A-4BF5-943E-5306763D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F15FA1-2603-4F9C-8F60-2F509376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61F4F2-8A41-4C28-93E6-D2CBE40D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5D2367-E236-4637-B95A-A9573440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708658-5AB1-4C5C-BCC7-9999BCE7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8794F8-8F42-4072-B60B-2BFEBE62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8A054E-F557-4497-97C0-CBE42980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54EE-4E20-4D61-97AD-582FD685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1DBEB9-32C9-4ED3-9829-586C8251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72006A-808B-4765-B97E-C09A20EB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78AFC8-B71A-4AB2-8EA3-213505DB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5FBCDD-0C5A-414C-B951-E376FC82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E3E2CD-A69C-495F-9129-608B21A2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B5360D-CDCE-4906-8EE5-FAD5108D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41471C-F186-4C01-A574-C04805A1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94C828-897F-4997-A733-B4D32052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D8A858-43F0-4B47-8CBC-D295469E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B782A4-B7A2-4A8C-A0E6-4A6DFD36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5218-2210-43B6-BBC6-0D3CE6F0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5F44AF-303C-4DB2-B248-E90DAC33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697F55-3C1D-4D06-8602-533B7E4A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34924F-533B-4E50-AA2F-8CBA8D3F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4835F9-4513-4DB0-87BE-D2849AA5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D5852F-BA93-420A-9286-BD1CE018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ECEF4C-8454-47DF-9804-1251EDD6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79AD0B-8CB9-45CB-8854-F068905D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B1746C-FBB7-4758-8DA0-48058DC4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2AAFA7-641A-428E-91A7-D270EA21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B6ECF3-BBFD-4F12-8FDB-3CF9E875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E032-C289-4395-AC57-829EAE09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65D9BF-145A-4093-97F4-B52DAC55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9F5DB5-09A3-49EE-9391-2838E72E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482F88-6A14-47B4-9F1E-E2920E63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64299D-66E1-4EB1-98BD-734FCECD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634A18-DEE4-4FD1-BC81-341D9B87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CDEBF6-01FF-4F81-ADD1-C19FDC67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B3CE3C-7D0E-4EB7-98CB-BFD63093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E961F4-9B33-44A3-8035-5A9F04B1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63271B-399C-4814-9187-B1E7A225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279C15-8BC4-4CA0-8AB1-1F9BD6F4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C834F-0818-4E8A-8B6A-DB982D8C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5F5088-4099-48FD-ACC6-3E4A8DE8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F8E80D-E983-4B30-8B86-67792E7F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AB8E68-6A3D-4F0A-B7C6-DC76829E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19C40-B90C-4494-8E76-FCFD50C2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3DC05-2303-411A-AB97-DFB805DE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CF92D-0117-4ECF-8414-D31F343D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7954F-1954-4831-9BF1-71AD2CE6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742-DA62-48E7-89D3-D7CF2D24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FDDC4-FE50-49BD-AE6E-13F05CD8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42C50-BDB0-4AEE-AE1D-03191C90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86810-914A-41CA-A9C1-1E7B605D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69531-E85A-4FFE-9C2A-761DE1D9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AADCB-D0E0-4375-9E69-7DFF9326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F0587-09AC-4E98-A0EB-06694449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9D2FE-AB37-428A-82B5-8DD03AD2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04C6B-F777-490C-895C-D41188B5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02FB6-F2B1-44C9-A59D-7BDF79E0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60FDF-C36F-4AB9-BFDC-9BB4D0B9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AC5-3B37-4B0C-9AC6-A65EC0AF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FAE7E-E6ED-4825-8DE7-6596DA7F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F4504-85F1-481D-BF61-A62186E7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1AD6C-2AE2-4480-A2B6-479415FE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909AB-9CA9-4507-8D1D-B47D79AA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D263F-3468-4110-8E00-69C37CEF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5CEFC-BDF9-486A-841F-6CEED13C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E063E-9EE9-428F-9B98-32CBEB1A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258BE-CFDA-48F9-A8F9-89CABFB5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66423-0F3D-4338-9B42-BDE419C2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22EC6-D985-4482-BC37-58D0CD5D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AA0-FBF5-48AA-AC3F-6F2BDB29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2B824-70BB-48D2-BC42-FFF2D187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CD29F-08FB-4489-88F8-B18D7F65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95BC4-3BF8-41BD-AA88-2B860BDF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626E5-7D91-4ED4-B59B-051935CA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665F1-2F35-4001-A962-B257E573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52139-22CE-415B-A54D-27899B2B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765D0-E756-41AD-B830-BF353C78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8113E-EBBA-4EFF-A52A-CE39398E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83588-A72E-4769-A36C-0D8FFF0A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B4D57-766E-46C5-B95C-DEDCDDBA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644-1822-4511-8922-4DD4C0B1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1E7B5-B19A-4721-A22D-853C4DD6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09118-AB11-4E32-9F3B-E5744124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BA4BD-8584-4485-940B-0F2C3D00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8D33B-09F0-4442-9984-2BE01B1B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2A4C5-72D9-439F-B08F-7F63AF3F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ADF36-4A6E-495C-A629-C5C37CD1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996A1-8F6F-4BE8-BD6E-C57CD76A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F217A-9ED8-4AD9-91AD-EC1DB848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EBB54-CEDA-42B1-B72C-9FC8A3EA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A6FFF-052B-48CB-AE3B-002535FF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068-93AD-4C15-9B95-C81E1C31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C0AD7-D089-45C5-8F7F-83F61703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F5C81-CCC8-4CF4-A395-AEA8DC6F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10638-5D50-4C4A-AB09-124B5D3E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B9EB4-A758-4DB1-BB97-830C238C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92023-7F66-41F2-8874-6C4DACCA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59F0C-22FA-4D67-9B86-62D7E6C1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72932-B50F-4570-8EC9-D1DD5A3A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B91D7-87DB-4046-8E69-1FAB8D72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4D46C-CFD0-4DE5-89A7-4397BA4F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C6F1E-7A0B-4503-8180-82A9BBE5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356-7FD8-477D-BD53-07533E24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E1B0D-CF82-4E6D-BCA4-AADE0A5C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6CFF3-AF58-4A1E-B7A3-B8076A36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8A7B0-30B4-4581-AD28-486C141D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DC4CA-B8D2-4C19-99CB-F4DC8C84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52205-BDAE-47DE-AE6B-85CE9187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44111-19F1-4572-BFA9-D8BA1383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F4B01-CFB4-47CA-9944-D622C155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4D6E0-B727-4837-88CB-59CA8D66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D7FF1-EC39-482D-B296-71C3FEA8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3EA2A-32CD-4A06-ACDC-33377EAD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6F9-155C-4D93-8C59-5FE1058D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2BA31-4878-4E19-B0B4-DF3CD998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A6D79-28D8-4289-AF82-6F818965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348F7-627C-4612-94D3-13946BF1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89FE8-E662-4844-A3BF-D61B95C6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C5ED8-0F72-4AB4-AEA5-3A1EBBAF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4267F-34D8-418A-81D8-0007B529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4E65F-C432-4734-9743-EB07B544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C4BD7-E439-4E76-9C82-5379D6A8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645BC-F2BA-4613-9296-D0B3376F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1E5F3-FD3E-455B-97FA-AE67B444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33EB-E9C3-4148-89EC-97FB14CA7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A31B-F534-499F-BE63-3095CA89F7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9C51-BB20-4CB0-9F06-7C6D5E5996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4120-49CA-407B-B9E6-30C4C526BC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77A3-7E2C-4111-9D0C-472907030E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BB42-5D52-469E-B48F-CAF8A1F18C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8756-9852-45D0-976F-DF1F94440C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6986-7FCF-4CAB-81AB-C6F5440867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D1CF-70E2-4C1F-B1BD-150AF27F4B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E61E-2665-480D-ADEF-C3E23E2483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1E74-D1D3-4981-87E3-59F4B47337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1F24-BD62-496B-80A6-F34F83A54B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C9E3-6741-4864-A438-40D2E78451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1B0A-25B7-40BE-8408-ACBC1C30C9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602A-0488-4C52-AB5F-21E150FC64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44C8-1DE1-45DD-B28A-C16D9BF56A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C562-EA5A-4F69-9182-025C0972E9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68D0-A7FC-46DC-87D2-D5E54E635E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596C-A1AA-4812-AE8B-7320EEB05E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2533-CC40-40E3-9EC4-3D4586AC26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E4AD-2BEC-4FFF-A956-786BF8D243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F6C8-5562-414B-82DB-F20FFA425B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D5F0-B42C-4F61-BF5B-A1D26F3231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9FC9-2D28-4305-8E2E-40A6663F5B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05E1-91AE-402B-8E4C-CE6E282141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5300-1DD7-4E8E-A562-C16D3A8997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1275-0006-428B-ACAE-8314398745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14C2-F386-4C10-B3CD-2AF6005F1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1A81-DF47-405F-A538-C5C6DCEE0E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C529-E8CA-442D-975E-96E26AD906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77FA-CA10-4D96-B774-1C190F5A7C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0F6C-C9B1-4E4F-B690-45A1C34B10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32FD-4E23-4EC1-92A7-9908CE361F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1584-31B5-4159-AB24-B778C42D81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B101-ADB5-4E06-9CD7-62FBDEDAC8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9A14-D575-40C8-B488-1F5DD5C707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14A5-7606-4F70-8125-F79C29924A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2859-DFC5-46C2-BE97-0BE6889E11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2244-1648-420F-A5A9-6FB4F4714E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60CD-14E3-4CAB-91F7-EB8A4CA0F0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771640" y="3205080"/>
            <a:ext cx="360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Picture 1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477280" cy="5372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2"/>
          <a:stretch/>
        </p:blipFill>
        <p:spPr>
          <a:xfrm>
            <a:off x="1071720" y="3063960"/>
            <a:ext cx="4500360" cy="3967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3"/>
          <a:stretch/>
        </p:blipFill>
        <p:spPr>
          <a:xfrm>
            <a:off x="1071720" y="3417840"/>
            <a:ext cx="38574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Picture 1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8553240" cy="542916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2"/>
          <a:stretch/>
        </p:blipFill>
        <p:spPr>
          <a:xfrm>
            <a:off x="285840" y="102060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3"/>
          <a:stretch/>
        </p:blipFill>
        <p:spPr>
          <a:xfrm>
            <a:off x="285840" y="144792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4"/>
          <a:stretch/>
        </p:blipFill>
        <p:spPr>
          <a:xfrm>
            <a:off x="285840" y="1846440"/>
            <a:ext cx="8786880" cy="3981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5"/>
          <a:stretch/>
        </p:blipFill>
        <p:spPr>
          <a:xfrm>
            <a:off x="285840" y="3959280"/>
            <a:ext cx="4786200" cy="39852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6"/>
          <a:stretch/>
        </p:blipFill>
        <p:spPr>
          <a:xfrm>
            <a:off x="285840" y="4356000"/>
            <a:ext cx="4786200" cy="3985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7"/>
          <a:stretch/>
        </p:blipFill>
        <p:spPr>
          <a:xfrm>
            <a:off x="285840" y="4745160"/>
            <a:ext cx="4786200" cy="3985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8"/>
          <a:stretch/>
        </p:blipFill>
        <p:spPr>
          <a:xfrm>
            <a:off x="285840" y="5175360"/>
            <a:ext cx="4786200" cy="3985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9"/>
          <a:stretch/>
        </p:blipFill>
        <p:spPr>
          <a:xfrm>
            <a:off x="285840" y="5602320"/>
            <a:ext cx="4786200" cy="3985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10"/>
          <a:stretch/>
        </p:blipFill>
        <p:spPr>
          <a:xfrm>
            <a:off x="285840" y="6031080"/>
            <a:ext cx="4786200" cy="39816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2" descr=""/>
          <p:cNvPicPr/>
          <p:nvPr/>
        </p:nvPicPr>
        <p:blipFill>
          <a:blip r:embed="rId11"/>
          <a:stretch/>
        </p:blipFill>
        <p:spPr>
          <a:xfrm>
            <a:off x="5327640" y="3917880"/>
            <a:ext cx="33814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2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Picture 1" descr=""/>
          <p:cNvPicPr/>
          <p:nvPr/>
        </p:nvPicPr>
        <p:blipFill>
          <a:blip r:embed="rId1"/>
          <a:stretch/>
        </p:blipFill>
        <p:spPr>
          <a:xfrm>
            <a:off x="857160" y="857160"/>
            <a:ext cx="7801200" cy="297180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2" descr=""/>
          <p:cNvPicPr/>
          <p:nvPr/>
        </p:nvPicPr>
        <p:blipFill>
          <a:blip r:embed="rId2"/>
          <a:stretch/>
        </p:blipFill>
        <p:spPr>
          <a:xfrm>
            <a:off x="357120" y="4714920"/>
            <a:ext cx="8353440" cy="169524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3"/>
          <a:stretch/>
        </p:blipFill>
        <p:spPr>
          <a:xfrm>
            <a:off x="285840" y="82548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4" descr=""/>
          <p:cNvPicPr/>
          <p:nvPr/>
        </p:nvPicPr>
        <p:blipFill>
          <a:blip r:embed="rId4"/>
          <a:stretch/>
        </p:blipFill>
        <p:spPr>
          <a:xfrm>
            <a:off x="285840" y="124452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4" descr=""/>
          <p:cNvPicPr/>
          <p:nvPr/>
        </p:nvPicPr>
        <p:blipFill>
          <a:blip r:embed="rId5"/>
          <a:stretch/>
        </p:blipFill>
        <p:spPr>
          <a:xfrm>
            <a:off x="285840" y="168264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" descr=""/>
          <p:cNvPicPr/>
          <p:nvPr/>
        </p:nvPicPr>
        <p:blipFill>
          <a:blip r:embed="rId6"/>
          <a:stretch/>
        </p:blipFill>
        <p:spPr>
          <a:xfrm>
            <a:off x="285840" y="2174760"/>
            <a:ext cx="8786880" cy="7779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7"/>
          <a:stretch/>
        </p:blipFill>
        <p:spPr>
          <a:xfrm>
            <a:off x="285840" y="3083040"/>
            <a:ext cx="878688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Picture 1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7924680" cy="49532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4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4000320" cy="3985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4" descr=""/>
          <p:cNvPicPr/>
          <p:nvPr/>
        </p:nvPicPr>
        <p:blipFill>
          <a:blip r:embed="rId3"/>
          <a:stretch/>
        </p:blipFill>
        <p:spPr>
          <a:xfrm>
            <a:off x="285840" y="1612800"/>
            <a:ext cx="4000320" cy="3985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"/>
          <p:cNvPicPr/>
          <p:nvPr/>
        </p:nvPicPr>
        <p:blipFill>
          <a:blip r:embed="rId4"/>
          <a:stretch/>
        </p:blipFill>
        <p:spPr>
          <a:xfrm>
            <a:off x="285840" y="2050920"/>
            <a:ext cx="4000320" cy="3985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4" descr=""/>
          <p:cNvPicPr/>
          <p:nvPr/>
        </p:nvPicPr>
        <p:blipFill>
          <a:blip r:embed="rId5"/>
          <a:stretch/>
        </p:blipFill>
        <p:spPr>
          <a:xfrm>
            <a:off x="285840" y="2408400"/>
            <a:ext cx="4000320" cy="39816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4" descr=""/>
          <p:cNvPicPr/>
          <p:nvPr/>
        </p:nvPicPr>
        <p:blipFill>
          <a:blip r:embed="rId6"/>
          <a:stretch/>
        </p:blipFill>
        <p:spPr>
          <a:xfrm>
            <a:off x="285840" y="2878200"/>
            <a:ext cx="4000320" cy="39852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4" descr=""/>
          <p:cNvPicPr/>
          <p:nvPr/>
        </p:nvPicPr>
        <p:blipFill>
          <a:blip r:embed="rId7"/>
          <a:stretch/>
        </p:blipFill>
        <p:spPr>
          <a:xfrm>
            <a:off x="285840" y="3297240"/>
            <a:ext cx="4000320" cy="39852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4" descr=""/>
          <p:cNvPicPr/>
          <p:nvPr/>
        </p:nvPicPr>
        <p:blipFill>
          <a:blip r:embed="rId8"/>
          <a:stretch/>
        </p:blipFill>
        <p:spPr>
          <a:xfrm>
            <a:off x="285840" y="368928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4" descr=""/>
          <p:cNvPicPr/>
          <p:nvPr/>
        </p:nvPicPr>
        <p:blipFill>
          <a:blip r:embed="rId9"/>
          <a:stretch/>
        </p:blipFill>
        <p:spPr>
          <a:xfrm>
            <a:off x="142920" y="410220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4" descr=""/>
          <p:cNvPicPr/>
          <p:nvPr/>
        </p:nvPicPr>
        <p:blipFill>
          <a:blip r:embed="rId10"/>
          <a:stretch/>
        </p:blipFill>
        <p:spPr>
          <a:xfrm>
            <a:off x="142920" y="453060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4" descr=""/>
          <p:cNvPicPr/>
          <p:nvPr/>
        </p:nvPicPr>
        <p:blipFill>
          <a:blip r:embed="rId11"/>
          <a:stretch/>
        </p:blipFill>
        <p:spPr>
          <a:xfrm>
            <a:off x="142920" y="495936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"/>
          <p:cNvPicPr/>
          <p:nvPr/>
        </p:nvPicPr>
        <p:blipFill>
          <a:blip r:embed="rId12"/>
          <a:stretch/>
        </p:blipFill>
        <p:spPr>
          <a:xfrm>
            <a:off x="142920" y="5460840"/>
            <a:ext cx="87868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3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3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Picture 1" descr=""/>
          <p:cNvPicPr/>
          <p:nvPr/>
        </p:nvPicPr>
        <p:blipFill>
          <a:blip r:embed="rId1"/>
          <a:stretch/>
        </p:blipFill>
        <p:spPr>
          <a:xfrm>
            <a:off x="285840" y="714240"/>
            <a:ext cx="8572320" cy="60962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2" descr=""/>
          <p:cNvPicPr/>
          <p:nvPr/>
        </p:nvPicPr>
        <p:blipFill>
          <a:blip r:embed="rId2"/>
          <a:stretch/>
        </p:blipFill>
        <p:spPr>
          <a:xfrm>
            <a:off x="5869080" y="3917880"/>
            <a:ext cx="2847960" cy="24573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"/>
          <p:cNvPicPr/>
          <p:nvPr/>
        </p:nvPicPr>
        <p:blipFill>
          <a:blip r:embed="rId3"/>
          <a:stretch/>
        </p:blipFill>
        <p:spPr>
          <a:xfrm>
            <a:off x="285840" y="3908520"/>
            <a:ext cx="5429160" cy="398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" descr=""/>
          <p:cNvPicPr/>
          <p:nvPr/>
        </p:nvPicPr>
        <p:blipFill>
          <a:blip r:embed="rId4"/>
          <a:stretch/>
        </p:blipFill>
        <p:spPr>
          <a:xfrm>
            <a:off x="285840" y="4316400"/>
            <a:ext cx="5429160" cy="3985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" descr=""/>
          <p:cNvPicPr/>
          <p:nvPr/>
        </p:nvPicPr>
        <p:blipFill>
          <a:blip r:embed="rId5"/>
          <a:stretch/>
        </p:blipFill>
        <p:spPr>
          <a:xfrm>
            <a:off x="285840" y="4756320"/>
            <a:ext cx="5429160" cy="3981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" descr=""/>
          <p:cNvPicPr/>
          <p:nvPr/>
        </p:nvPicPr>
        <p:blipFill>
          <a:blip r:embed="rId6"/>
          <a:stretch/>
        </p:blipFill>
        <p:spPr>
          <a:xfrm>
            <a:off x="285840" y="5173560"/>
            <a:ext cx="5429160" cy="3985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4" descr=""/>
          <p:cNvPicPr/>
          <p:nvPr/>
        </p:nvPicPr>
        <p:blipFill>
          <a:blip r:embed="rId7"/>
          <a:stretch/>
        </p:blipFill>
        <p:spPr>
          <a:xfrm>
            <a:off x="285840" y="5583240"/>
            <a:ext cx="5429160" cy="3985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"/>
          <p:cNvPicPr/>
          <p:nvPr/>
        </p:nvPicPr>
        <p:blipFill>
          <a:blip r:embed="rId8"/>
          <a:stretch/>
        </p:blipFill>
        <p:spPr>
          <a:xfrm>
            <a:off x="285840" y="6080040"/>
            <a:ext cx="87868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5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1" descr=""/>
          <p:cNvPicPr/>
          <p:nvPr/>
        </p:nvPicPr>
        <p:blipFill>
          <a:blip r:embed="rId1"/>
          <a:stretch/>
        </p:blipFill>
        <p:spPr>
          <a:xfrm>
            <a:off x="928800" y="1000080"/>
            <a:ext cx="7362720" cy="53150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4" descr=""/>
          <p:cNvPicPr/>
          <p:nvPr/>
        </p:nvPicPr>
        <p:blipFill>
          <a:blip r:embed="rId2"/>
          <a:stretch/>
        </p:blipFill>
        <p:spPr>
          <a:xfrm>
            <a:off x="285840" y="1019160"/>
            <a:ext cx="8786880" cy="7048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4" descr=""/>
          <p:cNvPicPr/>
          <p:nvPr/>
        </p:nvPicPr>
        <p:blipFill>
          <a:blip r:embed="rId3"/>
          <a:stretch/>
        </p:blipFill>
        <p:spPr>
          <a:xfrm>
            <a:off x="285840" y="1765440"/>
            <a:ext cx="8786880" cy="39816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4" descr=""/>
          <p:cNvPicPr/>
          <p:nvPr/>
        </p:nvPicPr>
        <p:blipFill>
          <a:blip r:embed="rId4"/>
          <a:stretch/>
        </p:blipFill>
        <p:spPr>
          <a:xfrm>
            <a:off x="285840" y="2254320"/>
            <a:ext cx="8786880" cy="7048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4" descr=""/>
          <p:cNvPicPr/>
          <p:nvPr/>
        </p:nvPicPr>
        <p:blipFill>
          <a:blip r:embed="rId5"/>
          <a:stretch/>
        </p:blipFill>
        <p:spPr>
          <a:xfrm>
            <a:off x="285840" y="300024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4" descr=""/>
          <p:cNvPicPr/>
          <p:nvPr/>
        </p:nvPicPr>
        <p:blipFill>
          <a:blip r:embed="rId6"/>
          <a:stretch/>
        </p:blipFill>
        <p:spPr>
          <a:xfrm>
            <a:off x="285840" y="342900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4" descr=""/>
          <p:cNvPicPr/>
          <p:nvPr/>
        </p:nvPicPr>
        <p:blipFill>
          <a:blip r:embed="rId7"/>
          <a:stretch/>
        </p:blipFill>
        <p:spPr>
          <a:xfrm>
            <a:off x="285840" y="381636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4" descr=""/>
          <p:cNvPicPr/>
          <p:nvPr/>
        </p:nvPicPr>
        <p:blipFill>
          <a:blip r:embed="rId8"/>
          <a:stretch/>
        </p:blipFill>
        <p:spPr>
          <a:xfrm>
            <a:off x="285840" y="4245120"/>
            <a:ext cx="8786880" cy="3981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4" descr=""/>
          <p:cNvPicPr/>
          <p:nvPr/>
        </p:nvPicPr>
        <p:blipFill>
          <a:blip r:embed="rId9"/>
          <a:stretch/>
        </p:blipFill>
        <p:spPr>
          <a:xfrm>
            <a:off x="285840" y="465300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4" descr=""/>
          <p:cNvPicPr/>
          <p:nvPr/>
        </p:nvPicPr>
        <p:blipFill>
          <a:blip r:embed="rId10"/>
          <a:stretch/>
        </p:blipFill>
        <p:spPr>
          <a:xfrm>
            <a:off x="285840" y="505152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4" descr=""/>
          <p:cNvPicPr/>
          <p:nvPr/>
        </p:nvPicPr>
        <p:blipFill>
          <a:blip r:embed="rId11"/>
          <a:stretch/>
        </p:blipFill>
        <p:spPr>
          <a:xfrm>
            <a:off x="285840" y="5583240"/>
            <a:ext cx="8786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2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4248360" cy="50673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3" descr=""/>
          <p:cNvPicPr/>
          <p:nvPr/>
        </p:nvPicPr>
        <p:blipFill>
          <a:blip r:embed="rId2"/>
          <a:stretch/>
        </p:blipFill>
        <p:spPr>
          <a:xfrm>
            <a:off x="4767120" y="1714680"/>
            <a:ext cx="4162680" cy="4533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5" descr=""/>
          <p:cNvPicPr/>
          <p:nvPr/>
        </p:nvPicPr>
        <p:blipFill>
          <a:blip r:embed="rId3"/>
          <a:stretch/>
        </p:blipFill>
        <p:spPr>
          <a:xfrm>
            <a:off x="1062000" y="2543040"/>
            <a:ext cx="600120" cy="2667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5" descr=""/>
          <p:cNvPicPr/>
          <p:nvPr/>
        </p:nvPicPr>
        <p:blipFill>
          <a:blip r:embed="rId4"/>
          <a:stretch/>
        </p:blipFill>
        <p:spPr>
          <a:xfrm>
            <a:off x="1962000" y="3666960"/>
            <a:ext cx="1073160" cy="2667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5" descr=""/>
          <p:cNvPicPr/>
          <p:nvPr/>
        </p:nvPicPr>
        <p:blipFill>
          <a:blip r:embed="rId5"/>
          <a:stretch/>
        </p:blipFill>
        <p:spPr>
          <a:xfrm>
            <a:off x="3111480" y="4052880"/>
            <a:ext cx="1287360" cy="2649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5" descr=""/>
          <p:cNvPicPr/>
          <p:nvPr/>
        </p:nvPicPr>
        <p:blipFill>
          <a:blip r:embed="rId6"/>
          <a:stretch/>
        </p:blipFill>
        <p:spPr>
          <a:xfrm>
            <a:off x="1590840" y="5221440"/>
            <a:ext cx="1073160" cy="266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5" descr=""/>
          <p:cNvPicPr/>
          <p:nvPr/>
        </p:nvPicPr>
        <p:blipFill>
          <a:blip r:embed="rId7"/>
          <a:stretch/>
        </p:blipFill>
        <p:spPr>
          <a:xfrm>
            <a:off x="3219480" y="5221440"/>
            <a:ext cx="1073160" cy="26640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6" descr=""/>
          <p:cNvPicPr/>
          <p:nvPr/>
        </p:nvPicPr>
        <p:blipFill>
          <a:blip r:embed="rId8"/>
          <a:stretch/>
        </p:blipFill>
        <p:spPr>
          <a:xfrm>
            <a:off x="7034040" y="2014560"/>
            <a:ext cx="18957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214200" y="928800"/>
            <a:ext cx="4181760" cy="41050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2"/>
          <a:stretch/>
        </p:blipFill>
        <p:spPr>
          <a:xfrm>
            <a:off x="4819680" y="957240"/>
            <a:ext cx="4181400" cy="22575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5" descr=""/>
          <p:cNvPicPr/>
          <p:nvPr/>
        </p:nvPicPr>
        <p:blipFill>
          <a:blip r:embed="rId3"/>
          <a:stretch/>
        </p:blipFill>
        <p:spPr>
          <a:xfrm>
            <a:off x="1654200" y="928800"/>
            <a:ext cx="2921040" cy="266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"/>
          <p:cNvPicPr/>
          <p:nvPr/>
        </p:nvPicPr>
        <p:blipFill>
          <a:blip r:embed="rId4"/>
          <a:stretch/>
        </p:blipFill>
        <p:spPr>
          <a:xfrm>
            <a:off x="131760" y="1284120"/>
            <a:ext cx="4443480" cy="3096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"/>
          <p:cNvPicPr/>
          <p:nvPr/>
        </p:nvPicPr>
        <p:blipFill>
          <a:blip r:embed="rId5"/>
          <a:stretch/>
        </p:blipFill>
        <p:spPr>
          <a:xfrm>
            <a:off x="42840" y="1698480"/>
            <a:ext cx="4443480" cy="3081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5" descr=""/>
          <p:cNvPicPr/>
          <p:nvPr/>
        </p:nvPicPr>
        <p:blipFill>
          <a:blip r:embed="rId6"/>
          <a:stretch/>
        </p:blipFill>
        <p:spPr>
          <a:xfrm>
            <a:off x="154080" y="2041560"/>
            <a:ext cx="4443480" cy="5652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5" descr=""/>
          <p:cNvPicPr/>
          <p:nvPr/>
        </p:nvPicPr>
        <p:blipFill>
          <a:blip r:embed="rId7"/>
          <a:stretch/>
        </p:blipFill>
        <p:spPr>
          <a:xfrm>
            <a:off x="65160" y="2759040"/>
            <a:ext cx="4443480" cy="5652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5" descr=""/>
          <p:cNvPicPr/>
          <p:nvPr/>
        </p:nvPicPr>
        <p:blipFill>
          <a:blip r:embed="rId8"/>
          <a:stretch/>
        </p:blipFill>
        <p:spPr>
          <a:xfrm>
            <a:off x="114480" y="3421080"/>
            <a:ext cx="4444920" cy="3078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5" descr=""/>
          <p:cNvPicPr/>
          <p:nvPr/>
        </p:nvPicPr>
        <p:blipFill>
          <a:blip r:embed="rId9"/>
          <a:stretch/>
        </p:blipFill>
        <p:spPr>
          <a:xfrm>
            <a:off x="98280" y="3835440"/>
            <a:ext cx="4443480" cy="3078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5" descr=""/>
          <p:cNvPicPr/>
          <p:nvPr/>
        </p:nvPicPr>
        <p:blipFill>
          <a:blip r:embed="rId10"/>
          <a:stretch/>
        </p:blipFill>
        <p:spPr>
          <a:xfrm>
            <a:off x="154080" y="4176720"/>
            <a:ext cx="4443480" cy="3096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5" descr=""/>
          <p:cNvPicPr/>
          <p:nvPr/>
        </p:nvPicPr>
        <p:blipFill>
          <a:blip r:embed="rId11"/>
          <a:stretch/>
        </p:blipFill>
        <p:spPr>
          <a:xfrm>
            <a:off x="136440" y="4591080"/>
            <a:ext cx="4444920" cy="3078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5" descr=""/>
          <p:cNvPicPr/>
          <p:nvPr/>
        </p:nvPicPr>
        <p:blipFill>
          <a:blip r:embed="rId12"/>
          <a:stretch/>
        </p:blipFill>
        <p:spPr>
          <a:xfrm>
            <a:off x="6219720" y="2886120"/>
            <a:ext cx="222588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2" descr=""/>
          <p:cNvPicPr/>
          <p:nvPr/>
        </p:nvPicPr>
        <p:blipFill>
          <a:blip r:embed="rId1"/>
          <a:stretch/>
        </p:blipFill>
        <p:spPr>
          <a:xfrm>
            <a:off x="452520" y="890640"/>
            <a:ext cx="8238960" cy="57531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2"/>
          <a:stretch/>
        </p:blipFill>
        <p:spPr>
          <a:xfrm>
            <a:off x="7486560" y="752400"/>
            <a:ext cx="1228680" cy="3906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5" descr=""/>
          <p:cNvPicPr/>
          <p:nvPr/>
        </p:nvPicPr>
        <p:blipFill>
          <a:blip r:embed="rId3"/>
          <a:stretch/>
        </p:blipFill>
        <p:spPr>
          <a:xfrm>
            <a:off x="8023320" y="2354400"/>
            <a:ext cx="352440" cy="3078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5" descr=""/>
          <p:cNvPicPr/>
          <p:nvPr/>
        </p:nvPicPr>
        <p:blipFill>
          <a:blip r:embed="rId4"/>
          <a:stretch/>
        </p:blipFill>
        <p:spPr>
          <a:xfrm>
            <a:off x="8005680" y="3236760"/>
            <a:ext cx="354240" cy="3096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5" descr=""/>
          <p:cNvPicPr/>
          <p:nvPr/>
        </p:nvPicPr>
        <p:blipFill>
          <a:blip r:embed="rId5"/>
          <a:stretch/>
        </p:blipFill>
        <p:spPr>
          <a:xfrm>
            <a:off x="2004840" y="6004080"/>
            <a:ext cx="354240" cy="3092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5" descr=""/>
          <p:cNvPicPr/>
          <p:nvPr/>
        </p:nvPicPr>
        <p:blipFill>
          <a:blip r:embed="rId6"/>
          <a:stretch/>
        </p:blipFill>
        <p:spPr>
          <a:xfrm>
            <a:off x="6294600" y="6004080"/>
            <a:ext cx="353880" cy="3092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5" descr=""/>
          <p:cNvPicPr/>
          <p:nvPr/>
        </p:nvPicPr>
        <p:blipFill>
          <a:blip r:embed="rId7"/>
          <a:stretch/>
        </p:blipFill>
        <p:spPr>
          <a:xfrm>
            <a:off x="2897280" y="6299280"/>
            <a:ext cx="35388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452520" y="880920"/>
            <a:ext cx="8238960" cy="57628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5" descr=""/>
          <p:cNvPicPr/>
          <p:nvPr/>
        </p:nvPicPr>
        <p:blipFill>
          <a:blip r:embed="rId2"/>
          <a:stretch/>
        </p:blipFill>
        <p:spPr>
          <a:xfrm>
            <a:off x="601560" y="1733400"/>
            <a:ext cx="5278680" cy="3081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5" descr=""/>
          <p:cNvPicPr/>
          <p:nvPr/>
        </p:nvPicPr>
        <p:blipFill>
          <a:blip r:embed="rId3"/>
          <a:stretch/>
        </p:blipFill>
        <p:spPr>
          <a:xfrm>
            <a:off x="585720" y="2021040"/>
            <a:ext cx="5278680" cy="3078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" descr=""/>
          <p:cNvPicPr/>
          <p:nvPr/>
        </p:nvPicPr>
        <p:blipFill>
          <a:blip r:embed="rId4"/>
          <a:stretch/>
        </p:blipFill>
        <p:spPr>
          <a:xfrm>
            <a:off x="568440" y="2308320"/>
            <a:ext cx="5278320" cy="3078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5" descr=""/>
          <p:cNvPicPr/>
          <p:nvPr/>
        </p:nvPicPr>
        <p:blipFill>
          <a:blip r:embed="rId5"/>
          <a:stretch/>
        </p:blipFill>
        <p:spPr>
          <a:xfrm>
            <a:off x="687240" y="2585880"/>
            <a:ext cx="5278680" cy="3096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5" descr=""/>
          <p:cNvPicPr/>
          <p:nvPr/>
        </p:nvPicPr>
        <p:blipFill>
          <a:blip r:embed="rId6"/>
          <a:stretch/>
        </p:blipFill>
        <p:spPr>
          <a:xfrm>
            <a:off x="8132760" y="3608280"/>
            <a:ext cx="35388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2" descr=""/>
          <p:cNvPicPr/>
          <p:nvPr/>
        </p:nvPicPr>
        <p:blipFill>
          <a:blip r:embed="rId1"/>
          <a:stretch/>
        </p:blipFill>
        <p:spPr>
          <a:xfrm>
            <a:off x="438120" y="990720"/>
            <a:ext cx="8267760" cy="5352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5" descr=""/>
          <p:cNvPicPr/>
          <p:nvPr/>
        </p:nvPicPr>
        <p:blipFill>
          <a:blip r:embed="rId2"/>
          <a:stretch/>
        </p:blipFill>
        <p:spPr>
          <a:xfrm>
            <a:off x="1231920" y="1266840"/>
            <a:ext cx="542880" cy="3078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5" descr=""/>
          <p:cNvPicPr/>
          <p:nvPr/>
        </p:nvPicPr>
        <p:blipFill>
          <a:blip r:embed="rId3"/>
          <a:stretch/>
        </p:blipFill>
        <p:spPr>
          <a:xfrm>
            <a:off x="1224000" y="1852560"/>
            <a:ext cx="353880" cy="30960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3" descr=""/>
          <p:cNvPicPr/>
          <p:nvPr/>
        </p:nvPicPr>
        <p:blipFill>
          <a:blip r:embed="rId4"/>
          <a:stretch/>
        </p:blipFill>
        <p:spPr>
          <a:xfrm>
            <a:off x="6562800" y="3321000"/>
            <a:ext cx="2143080" cy="16765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5" descr=""/>
          <p:cNvPicPr/>
          <p:nvPr/>
        </p:nvPicPr>
        <p:blipFill>
          <a:blip r:embed="rId5"/>
          <a:stretch/>
        </p:blipFill>
        <p:spPr>
          <a:xfrm>
            <a:off x="617400" y="3330720"/>
            <a:ext cx="5372280" cy="3078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5" descr=""/>
          <p:cNvPicPr/>
          <p:nvPr/>
        </p:nvPicPr>
        <p:blipFill>
          <a:blip r:embed="rId6"/>
          <a:stretch/>
        </p:blipFill>
        <p:spPr>
          <a:xfrm>
            <a:off x="601560" y="3608280"/>
            <a:ext cx="5372280" cy="3096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5" descr=""/>
          <p:cNvPicPr/>
          <p:nvPr/>
        </p:nvPicPr>
        <p:blipFill>
          <a:blip r:embed="rId7"/>
          <a:stretch/>
        </p:blipFill>
        <p:spPr>
          <a:xfrm>
            <a:off x="657360" y="3903840"/>
            <a:ext cx="5371920" cy="3092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5" descr=""/>
          <p:cNvPicPr/>
          <p:nvPr/>
        </p:nvPicPr>
        <p:blipFill>
          <a:blip r:embed="rId8"/>
          <a:stretch/>
        </p:blipFill>
        <p:spPr>
          <a:xfrm>
            <a:off x="568440" y="4229280"/>
            <a:ext cx="5371920" cy="3092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5" descr=""/>
          <p:cNvPicPr/>
          <p:nvPr/>
        </p:nvPicPr>
        <p:blipFill>
          <a:blip r:embed="rId9"/>
          <a:stretch/>
        </p:blipFill>
        <p:spPr>
          <a:xfrm>
            <a:off x="552600" y="4500720"/>
            <a:ext cx="5371920" cy="3078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5" descr=""/>
          <p:cNvPicPr/>
          <p:nvPr/>
        </p:nvPicPr>
        <p:blipFill>
          <a:blip r:embed="rId10"/>
          <a:stretch/>
        </p:blipFill>
        <p:spPr>
          <a:xfrm>
            <a:off x="534960" y="4788000"/>
            <a:ext cx="6027840" cy="3078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5" descr=""/>
          <p:cNvPicPr/>
          <p:nvPr/>
        </p:nvPicPr>
        <p:blipFill>
          <a:blip r:embed="rId11"/>
          <a:stretch/>
        </p:blipFill>
        <p:spPr>
          <a:xfrm>
            <a:off x="519120" y="5146560"/>
            <a:ext cx="8186760" cy="3081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5" descr=""/>
          <p:cNvPicPr/>
          <p:nvPr/>
        </p:nvPicPr>
        <p:blipFill>
          <a:blip r:embed="rId12"/>
          <a:stretch/>
        </p:blipFill>
        <p:spPr>
          <a:xfrm>
            <a:off x="501480" y="5454720"/>
            <a:ext cx="8188560" cy="5587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5" descr=""/>
          <p:cNvPicPr/>
          <p:nvPr/>
        </p:nvPicPr>
        <p:blipFill>
          <a:blip r:embed="rId13"/>
          <a:stretch/>
        </p:blipFill>
        <p:spPr>
          <a:xfrm>
            <a:off x="387360" y="6048360"/>
            <a:ext cx="818676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1" descr=""/>
          <p:cNvPicPr/>
          <p:nvPr/>
        </p:nvPicPr>
        <p:blipFill>
          <a:blip r:embed="rId1"/>
          <a:stretch/>
        </p:blipFill>
        <p:spPr>
          <a:xfrm>
            <a:off x="290520" y="1452600"/>
            <a:ext cx="8562960" cy="39528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2"/>
          <a:stretch/>
        </p:blipFill>
        <p:spPr>
          <a:xfrm>
            <a:off x="7858080" y="4043520"/>
            <a:ext cx="46512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1"/>
          <a:stretch/>
        </p:blipFill>
        <p:spPr>
          <a:xfrm>
            <a:off x="271440" y="1028880"/>
            <a:ext cx="8601120" cy="48006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2"/>
          <a:stretch/>
        </p:blipFill>
        <p:spPr>
          <a:xfrm>
            <a:off x="8072280" y="5000760"/>
            <a:ext cx="46512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Picture 1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8486640" cy="51530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2"/>
          <a:stretch/>
        </p:blipFill>
        <p:spPr>
          <a:xfrm>
            <a:off x="7929720" y="1428840"/>
            <a:ext cx="465120" cy="3967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3"/>
          <a:stretch/>
        </p:blipFill>
        <p:spPr>
          <a:xfrm>
            <a:off x="2214720" y="2000160"/>
            <a:ext cx="1357200" cy="3970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4"/>
          <a:stretch/>
        </p:blipFill>
        <p:spPr>
          <a:xfrm>
            <a:off x="4429080" y="5715000"/>
            <a:ext cx="46512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7:01:12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